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0EC-148D-4873-91A9-9499BA52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62B-9440-4D43-A48C-ECB2C510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4D8-AF44-40BF-B4DA-274DD85A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92B-2BBB-44B5-8334-16ADD01F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602D-42B2-4A78-962B-B3CD7193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497-4F09-4EA0-A59D-BE462B38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952D-C7C1-4D1C-B8E0-74061DD3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457D-597F-4892-AFAE-54F76D35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1937-D4AA-43F4-AEF2-4FC5996D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206A-D7E6-4363-9070-127B139F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AAA7-AB9E-4F6D-AE87-DDCF2A82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B61-62CB-453B-961A-BFF0A8EA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3D4E-D167-4F2F-B776-399DCEB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206E-BF2E-4548-9D42-2D0F95C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4CC1-3C41-42D7-9FB4-67777CBE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859E-3E73-457E-B48C-600B1A56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799F-8616-4615-BD8B-1C678F6C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08BD-AA12-49C4-AE4D-379E7075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FEED-430A-4D7F-A77D-A8BE5D26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0EA9-A759-458A-B455-F66CBE6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963B-D8DB-4699-B67B-6957E2FF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3C5B-FC8D-4362-8A97-E37E1052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E43-C190-4C94-BC6D-E84AA6C9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BA6E-A34D-496A-9489-96C4E3B1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A937-B59A-4C1F-B58A-D576DBF2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F66B-D245-415F-A29A-156BF83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FD7D-ABD0-438C-9A93-84725C2E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74E5-91B3-45A6-BA44-174CB460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2620-7518-4C53-807D-C748F8D4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F8D6-0285-4965-9D3E-B7C93304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274B-089A-4BA0-A808-1E51760D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81F0-D383-4730-A5BE-5D932877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C408B-29C3-48E5-8254-7587E87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37A-8328-4877-824E-92112FDB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C781-A764-4010-8164-CF7FFA2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CDF3-5F62-4F65-B88E-4629B9E2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1932E-1A4F-4813-8E09-7D13D85A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36177-8A02-4F44-9D4C-B7A62BF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F9D0-3D0A-4520-8EAE-100F789C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46235-1F64-408B-AB61-8F33EDE5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6D08-307E-466F-8724-399F89E1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84C5-06DC-4A01-98F0-A2969703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122F-289E-48DB-B781-31B79607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2C0-578E-4593-B07B-6B66B291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F49-0B27-43A6-95B3-F310FEB0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062-A75B-4F4E-BD9D-75D20B5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773-645D-48B3-AB79-D125D25B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528-00B0-40CB-B5D8-2B3592C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2CFC-5C74-4D07-A369-969100537E6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35B0-CA8A-4CFF-AE47-AC40D840528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72E2-5372-4E92-8297-804061B2E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9738-AD57-4429-82C3-38A604F7F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www.russianlegacy.com/catalog/images/matryoshka_traditional/M544.jpg&amp;imgrefurl=http://russianart.pubks.com/Russian-Composers&amp;usg=__fzb4MVuDz7KIBxPhKs8vvrAC330=&amp;h=500&amp;w=671&amp;sz=112&amp;hl=en&amp;start=7&amp;zoom=1&amp;itbs=1&amp;tbnid=Ak0Wjk5Atlvt2M:&amp;tbnh=103&amp;tbnw=138&amp;prev=/images%3Fq%3Drussian%2Bcomposers%26hl%3Den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RUSSIAN CUL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By: Brianne D. and Daniel J.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42926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ussian Orthod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Orthodox is part of the Christian Religion it is the biggest of all the Eastern Orthodox churches the only Christian church that is bigger is the Roman Catholic chur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l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lam is a monotheistic type of religion. Islam is one of the fastest growing religions of the world. Adherents are called Musli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Juda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daism began as the religion of the small nation of the Hebrews. And through thousands of years Judaism has continued to be a profoundly influential religion and cul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ristia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ians believe that Jesus is the son of God and that Christ was nailed to a cross and was kill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1676520"/>
            <a:ext cx="3276720" cy="30398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RT, MUSIC, AND LITERATU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 has a very rich tradition of art, music, and lit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ballet dancers are famous all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ser Peter Tchaikovsky wrote some of the worlds favorite ballets including Sleeping Beauty and the Nutcracker S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1812 overture celebrated the Russian defeat against the French in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kolay Rimsky-Korsakov used Russian folktales and tunes in his operas and other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gor Stravinsky’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rebir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e from a Russian leg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et Alexander Pushkin protested the lack of freedom under the Cz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o Tolstoy’s nove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ar and Pe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counts how Russians rallied to defeat the French in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Fyodor Dostoyevsky wrote many novels that told about Russian life during the late 1800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1970s Alexander Solzhenstein wrote novels that told about the harsh conditions of Communist 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33:12Z</dcterms:created>
  <dc:creator> </dc:creator>
  <dc:description/>
  <dc:language>en-US</dc:language>
  <cp:lastModifiedBy> </cp:lastModifiedBy>
  <dcterms:modified xsi:type="dcterms:W3CDTF">2010-12-20T14:50:56Z</dcterms:modified>
  <cp:revision>6</cp:revision>
  <dc:subject/>
  <dc:title>RUSSIAN CULTURE</dc:title>
</cp:coreProperties>
</file>